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3DA-2600-4FE1-8452-3D518C61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A58-FF11-4B45-8714-E4DAC823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A60-826D-4446-9954-B14A6C78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5A3-377E-4FA1-A080-F1E23BE8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C77C-7F8B-4A7C-8F1C-40B52EE5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D8A1-13D7-4A69-87E1-4E6CB501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A624-0EEC-4F09-AABC-3BE045F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1D5A-E766-4D88-8BBD-C18A81E1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6050-1AB8-4E38-A2F5-32FFECA1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6DCD-736D-4087-BF11-01763B0C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222A-7008-49DD-9190-E33BBE0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089-B9D9-4DAB-9572-33837450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8118-1D34-48B3-89AF-5CF3E966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68E5-5188-4004-ACF4-77FF4EB6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898B-922F-40D7-ADBF-D377D1D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82E8-ACC7-4539-918C-A2D9783F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63BE-30CE-446D-9B86-EC3F8C56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904-FFB2-4CBA-86BD-1F8374E9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001-9AFB-4D57-A1DA-BFB61BCA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7F9-11B4-467A-8BCA-C599BB8C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993-082C-4ACB-A9FB-BF9B57AA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29F-5F99-4FF4-9E98-A3F8259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011-2FAE-44BF-859B-56E098DB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969-2FEF-418B-979D-56D7D62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8A6A-52E1-41C1-A518-44C6136398D9}" type="slidenum">
              <a:rPr b="0" lang="en-US" sz="14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24382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9E8E-563C-421D-9CF8-F99017B39448}" type="slidenum">
              <a:rPr b="0" lang="en-US" sz="14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400" y="24382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66"/>
                </a:solidFill>
                <a:uFillTx/>
                <a:latin typeface="Handwriting - Dakota"/>
              </a:rPr>
              <a:t>Coralin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190760"/>
            <a:ext cx="556272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By: Neil Gaiman</a:t>
            </a: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	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Presentation by: Erin O’Neill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Handwriting - Dakota"/>
              </a:rPr>
              <a:t>Reasons why you should read this book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Page turner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Adventure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A girl who can outsmart others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1280880" cy="156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86200" y="19810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Handwriting - Dakota"/>
              </a:rPr>
              <a:t>Read aloud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544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971800" y="1905120"/>
            <a:ext cx="2644920" cy="39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91320" y="4114800"/>
            <a:ext cx="335268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0" y="2286000"/>
            <a:ext cx="2819520" cy="2271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30:51Z</dcterms:created>
  <dc:creator>cysd</dc:creator>
  <dc:description/>
  <dc:language>en-US</dc:language>
  <cp:lastModifiedBy>cysd</cp:lastModifiedBy>
  <dcterms:modified xsi:type="dcterms:W3CDTF">2008-11-21T14:15:41Z</dcterms:modified>
  <cp:revision>3</cp:revision>
  <dc:subject/>
  <dc:title>Coraline</dc:title>
</cp:coreProperties>
</file>